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E4C-63C5-49D6-A670-F6E0CAEF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4BF-34FF-4256-9C9B-A03F620C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8B5-C28E-494F-8116-CA50EEF0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232-F226-4A56-8DDF-ACDF57B0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DAC-3E6D-4CC2-B1A4-67848E96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182-B22B-4D13-859F-326F2B34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1E9-C7DD-45F2-82A1-66CC483B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1E5-28B5-4ED9-AE72-F320E9C9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7FE-3143-4590-B251-E1F0513A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38A-586E-4058-9B84-677B7423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8E1-0740-447D-90F1-1BBE604C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933-17FD-4C7D-B1BA-45953B2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A3CD-1303-438B-AEC5-1BFE9EE91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uk/imgres?imgurl=http://www.tdctrade.com/main/industries/image/28elecap.jpg&amp;imgrefurl=http://www.tdctrade.com/main/industries/t2_2_7.htm&amp;h=300&amp;w=205&amp;sz=26&amp;hl=en&amp;start=6&amp;tbnid=Wf5GUz2PTOhtyM:&amp;tbnh=116&amp;tbnw=79&amp;prev=/images%3Fq%3Delectrical%2Bappliances%26svnum%3D10%26hl%3Den%26lr%3D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.uk/imgres?imgurl=http://members.iinet.net.au/~hellgate/eddy/images/appl.jpg&amp;imgrefurl=http://members.iinet.net.au/~hellgate/eddy/qappl.html&amp;h=288&amp;w=358&amp;sz=57&amp;hl=en&amp;start=8&amp;tbnid=jIPUxfAFYvnJuM:&amp;tbnh=97&amp;tbnw=121&amp;prev=/images%3Fq%3Delectrical%2Bappliances%26svnum%3D10%26hl%3Den%26lr%3D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app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trans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ll the energy is turned into what we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quickly the energy is turned into what we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the rate of energy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the rate of energy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joules of energy get transferred every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make this into an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the rate of energy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joules of energy get transferred every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ergy transfe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measured in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00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demand for pow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00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words can you make from these 11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     i      c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    t      r      i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    e  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000 00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0 00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000 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 000 00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we need some way to cope with the large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 these into order – least to most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arge power st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ght bul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aturn V rock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or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u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 000 00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lectric coo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demand for pow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000 000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ailway eng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000 000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 = energy transferred/time ta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tor transfers 10 000J of energy in 25s.  What is its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ower of a lift motor that transfers 50 000J of energy from the electricity supply in 1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put power of a lift motor is 5000W.  In a test, it transforms 12 000J of electrical energy to gravitational energy in 20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electrical energy is supplied to the mo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s efficiency in the t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chine has a power rating of 100 kW.  If the machine runs for 2 minutes, how much energy does it trans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1989000"/>
            <a:ext cx="4392720" cy="388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1916280"/>
            <a:ext cx="4535640" cy="40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21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more about what happens when electricity gets transferred from one form of energy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us all to be abl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three main things that are caused when electricity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explain the difference between efficiency a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166920" cy="221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08720" y="3068640"/>
            <a:ext cx="3333600" cy="3448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03280" y="3213000"/>
            <a:ext cx="1684440" cy="247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04640"/>
            <a:ext cx="2737080" cy="2194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348000" y="1413000"/>
            <a:ext cx="2924280" cy="260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24360" y="333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se things turn energy from one form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437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and group them together by what they turn the energy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electricity get turn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electricity get turn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tic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group any of these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trans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ll the energy is turned into what we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quickly the energy is turned into what we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trans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ll the energy is turned into what we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quickly the energy is turned into what we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3:55:35Z</dcterms:created>
  <dc:creator>sthobbsc</dc:creator>
  <dc:description/>
  <dc:language>en-US</dc:language>
  <cp:lastModifiedBy>sthobbsc</cp:lastModifiedBy>
  <dcterms:modified xsi:type="dcterms:W3CDTF">2006-10-11T10:44:31Z</dcterms:modified>
  <cp:revision>3</cp:revision>
  <dc:subject/>
  <dc:title>Electrical appliances</dc:title>
</cp:coreProperties>
</file>